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982FB-04E6-4AD9-9E8F-66405F7D78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DB223-BDFD-46E3-B34E-CCF1629E4D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60B12-8B7C-4526-AA9A-9269AC4B59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27885-F4EE-4923-AC0D-879C8EF5C0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DC692-D68E-4AB6-A73F-25BB0F9228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99DA7-A941-45D3-A6FB-E6D89AE09C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F5062-BB80-4789-85EF-75E52CCF5F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2C07A-6F59-412D-8F6D-AE0C0D0D72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123BE-BE5B-4D87-B336-FF306E82EC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972B7-F42A-4050-913E-00D938B141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2AD7C-BCE2-48C7-8B25-8173FA20EE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DC147-0F3C-4712-9701-13C55E6CDE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828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62800" y="624492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91B8E-63BD-4694-9227-368D972A6C6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23842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Language Diversity in Switzer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Fritzi Wittman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B German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Quarter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981160" y="2381400"/>
            <a:ext cx="3181680" cy="209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080"/>
            <a:ext cx="8229600" cy="6007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many of you think that it is important to speak more than one language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639C5-21A9-42C9-88B4-37FEDCBD9D7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2. What percent of Students in Geneva believe that being multilingual is very importan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  <a:ea typeface="ヒラギノ角ゴ ProN W3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) 75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  <a:ea typeface="ヒラギノ角ゴ ProN W3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b) 20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  <a:ea typeface="ヒラギノ角ゴ ProN W3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) 15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  <a:ea typeface="ヒラギノ角ゴ ProN W3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) 80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462800" y="624492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C4879-67DF-4104-8F8F-EE113CCC18E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F971B-4A79-4177-80D3-4629F05374B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649440" indent="-60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; When polled, 80% of students acknowledged the importance of multilingualis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462800" y="624492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789FE-74A5-48D2-A089-2FC406E939E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72A63-D083-46BF-A6A8-12DE1F58D01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360" y="306360"/>
            <a:ext cx="8432640" cy="5880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700"/>
            </a:br>
            <a:br>
              <a:rPr sz="5700"/>
            </a:br>
            <a:r>
              <a:rPr b="0" lang="en-US" sz="5700" spc="-1" strike="noStrike">
                <a:solidFill>
                  <a:srgbClr val="000000"/>
                </a:solidFill>
                <a:latin typeface="Arial"/>
              </a:rPr>
              <a:t>Thank you for listening!!</a:t>
            </a:r>
            <a:br>
              <a:rPr sz="5700"/>
            </a:br>
            <a:br>
              <a:rPr sz="5700"/>
            </a:br>
            <a:r>
              <a:rPr b="0" lang="en-US" sz="5700" spc="-1" strike="noStrike">
                <a:solidFill>
                  <a:srgbClr val="000000"/>
                </a:solidFill>
                <a:latin typeface="Arial"/>
              </a:rPr>
              <a:t>Danke!!</a:t>
            </a:r>
            <a:br>
              <a:rPr sz="5700"/>
            </a:br>
            <a:br>
              <a:rPr sz="3500"/>
            </a:br>
            <a:br>
              <a:rPr sz="3500"/>
            </a:b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2EE11-3C9A-4446-A6C5-AF13F6BE58A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line 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swissinfo.ch/eng/Home/Archive/Swiss_urged_not_to_forget_language_diversity.html?cid=6702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ch.ch/private/00987/01052/01054/02165/index.html?lang=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usefoundation.org/view/6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images.travelpod.com/users/obrian0620/1.1289495297.switzerland-s-linguistic-diversity.g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/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gps-club.de/media/swiss_flag_big.g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8892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Lucida Grande"/>
                <a:ea typeface="Lucida Grande"/>
              </a:rPr>
              <a:t>Facts </a:t>
            </a:r>
            <a:br>
              <a:rPr sz="40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Grande"/>
                <a:ea typeface="Lucida Grande"/>
              </a:rPr>
              <a:t>Article: Swiss urged not to forget language diversit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witzerland has four nationally recognized languages: French, German, Italian, and Romans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ue to the global popularity of English Switzerland’s multilingual culture is under attac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ue to immigration and migration of language itself, Switzerland is, in many ways, more multilingual than befo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hen polled, 80% of students attending a high school in Geneva agreed that it is important to be multilingu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hile all German speaking students in schools are taught French as a second language it does not mean that the students are fluent throwing the legitimacy of being “multilingual” in to ques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6553080" cy="5122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09480" y="5486400"/>
            <a:ext cx="7569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Romansh, a Latin based language, accounts for approximately 0.5% of the populations language of choi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Facts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rticle: Switzerland's Linguistic Landscap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Other minority languages spoken in Switzerland Serbian, Croatian, Spanish, and Englis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hile, for the most part, Switzerland’s linguistic boarders are clearly defined there are definite areas of overla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July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Grande"/>
                <a:ea typeface="Lucida Grande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, 2011 the Ordinance on National Languages and Understanding between the Linguistic Communities  came to b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Each language is urged to promote multilingualism in order to preserve their own cultu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e most popularly spoken language in Switzerland is German (63.7%) followed by Italian (9%) and French (6.5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7696440" cy="3422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09480" y="4724280"/>
            <a:ext cx="78742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is sign exemplifies the multilingual aspects of the Swiss cultu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Facts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rticle: A Study on Linguistic D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e Swiss National Science Foundation recently began a study on linguistic diversity and language competenc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Language is pre-assigned to each territorial division of Switzerlan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pproximately 25% of the Swiss population are foreign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chools focus primarily on teaching German and French to their pupi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e SNSF is likely to use their collected data to produce new guidelines for schools to follow in the upcoming yea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105160" y="838080"/>
            <a:ext cx="3276360" cy="45259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ヒラギノ角ゴ ProN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is book illustrates how “Swiss” is truly a compilation of distinct languages yet is has managed to make them its own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4124520" cy="634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QUIZ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649440" indent="-60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hat percent of Swiss speak Romansh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4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Grande"/>
                <a:ea typeface="ヒラギノ角ゴ ProN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) 10%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4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Grande"/>
                <a:ea typeface="ヒラギノ角ゴ ProN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b) 2 %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4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Grande"/>
                <a:ea typeface="ヒラギノ角ゴ ProN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) 0.5%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4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Grande"/>
                <a:ea typeface="ヒラギノ角ゴ ProN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) 7%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4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4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7428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649440" indent="-60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; It is estimated that 0.5% of the population speaks on of the several dialects of Romansh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CSadmin</dc:creator>
  <dc:description/>
  <dc:language>en-US</dc:language>
  <cp:lastModifiedBy/>
  <cp:revision>0</cp:revision>
  <dc:subject/>
  <dc:title>Language Diversity in Switzerland</dc:title>
</cp:coreProperties>
</file>